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620C-5ACA-4BD3-951C-2D6377969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ficiency Over Standard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each student’s proficiency level per standard for one or more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roficiency can be shown with “moons” or percentages.  Sort by total score, overall percent, or results for any standard on the t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You have the option of including names of students for each question as we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Summary (related to Answer Distributio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snapshot view of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e option to show student scores and incorrect responses on the repor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you 6 reports that you can generate on the Performance Analysis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files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multiple years of test information for a single student or a batch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Great way to get an assessment history.  This is great for IEPs and SS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rget Areas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any desired combination of up to 18 tests for a clas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give you an overall sense of a student’s progress over time using multiple assessm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Gains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the increase or decrease between two or four related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also show proficiencies or percent profici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cent Proficient by Subgroup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ummarizes the score counts and percent of proficiency for students in a selected subgroup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formance Explore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View any combination of tests for any student set grouped by five or less demographic values (ie: grade, teacher, EL, ethnic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gress Report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powerful visual displaying growth for students with scores on two tests you want to com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lick on underlined numbers to get student detai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how would you like to end the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Measures here.  It is a student assessment database that can be compared to a warehouse of sorts.  The shelves of this warehouse are stocked with student demographic information and assessment data.  As consumers of this information, we can load our shopping carts with this information in a variety of ways.  We can use prepackaged reports, or we can open boxes and mix and match using just the information we want.  You have a membership to this warehouse that gives you access to assessment data for every student who is enrolled at your site.  In the future, you will have access to this information for every student who attended your site in the past 6 (?)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note-taking gu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so this is what you will see when you first log in to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s are the same as your email.  Passwords are yours to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list of your staff members’ log in information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has two “sides.”  After logging in, you are presented with the Test Delivery side.  This side is mainly for generating diagnostic reports and it is the side that is most frequently used by teachers.  This is also the portal to import scanned scantrons.  Each button on this page takes you to a separate function in Test Delivery.  In a moment I will show you some of these func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is the other side of Measures, Performance Analysis.  Performance Analysis is primarily used to generate longitudinal and demographic reports based on assessment data.  This side provides a variety of reports that are particularly useful to administrators as we analyze the effectiveness of our schoo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interest inventory form they filled out.  Explain that you will give them a snapshot tour of some of the basic reports Measures can provide.  They can match the reports that interest them to the corresponding Measures re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show you 6 reports available on the Test Delivery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by Studen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points earned and % correct for each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the name of the student to get a detailed view of their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Item Analy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how students performed on each question.  Colored bars indicate the number and % of students who answered correctly an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bars to show the names of the students.  Click on the Question number to see the Question, standard, and percentage of students who answered for EACH answer option.  You can sort this report in numerical sequence, standard, or number corr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Over Standard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students who were proficient or not proficient per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ll-up feature to summarize standards.  You can sort by standard or proficiency r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4C987-E776-4CE6-BDB2-9D73292CB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B287E-8107-48E0-A83A-404D9FFC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F2A7B-3A4E-487D-85A1-43C30EBE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28BCC-663C-461E-86C9-48AD743B6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5CF3F-7E54-477B-9F8C-69F44DAE0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7F6DA-ADAF-4A6D-9B80-0EC2E305A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EB3A0-2EA2-44AD-B3A3-21A8CA65E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CB7CB-D9C5-4974-9FE7-89EA48641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ED9FE-7DF2-4D09-AE3D-AF6AF228C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75E18-0E75-490E-B937-F62D18BF5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8CB29-AA28-4941-BFFF-730CA1D1B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A629-8C7B-4514-B7D9-4A2C1D60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498D9-79CC-499A-A4CA-47B975B61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340B9-7557-4346-9E07-E11A26C80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399CC-1E4A-4D04-9BF7-9B85A8222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BC3D4-632C-4560-BD77-BA25078D6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5AE6F-16E6-4B81-BBF3-6614E10DD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7BF0C-6D21-4C0B-85E9-E9B6E9400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D718-13A1-42D1-8B2F-C24FA3D2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A92A2-2E80-46F2-8DC4-FD6C8C0D9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B3087-2E9B-4E2A-8DCE-A09427E22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9D82C-51F4-42C3-94CA-6C6060E7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504DE-247C-4853-951A-5632F24CB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197D-F6CF-446E-A6A4-455B990D8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1DAC-72AF-4954-9294-FE235235ECF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2C37-E417-4153-89EE-71B690A252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ptember 2009</a:t>
            </a:r>
            <a:endParaRPr b="0" lang="en-US" sz="2800" spc="-1" strike="noStrike">
              <a:solidFill>
                <a:srgbClr val="003366"/>
              </a:solidFill>
              <a:latin typeface="Arial"/>
            </a:endParaRPr>
          </a:p>
        </p:txBody>
      </p:sp>
      <p:grpSp>
        <p:nvGrpSpPr>
          <p:cNvPr id="103" name=""/>
          <p:cNvGrpSpPr/>
          <p:nvPr/>
        </p:nvGrpSpPr>
        <p:grpSpPr>
          <a:xfrm>
            <a:off x="1676520" y="1295280"/>
            <a:ext cx="6400800" cy="1295280"/>
            <a:chOff x="1676520" y="1295280"/>
            <a:chExt cx="6400800" cy="1295280"/>
          </a:xfrm>
        </p:grpSpPr>
        <p:sp>
          <p:nvSpPr>
            <p:cNvPr id="104" name=""/>
            <p:cNvSpPr/>
            <p:nvPr/>
          </p:nvSpPr>
          <p:spPr>
            <a:xfrm>
              <a:off x="1676520" y="1295280"/>
              <a:ext cx="6400800" cy="129528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5" name="" descr=""/>
            <p:cNvPicPr/>
            <p:nvPr/>
          </p:nvPicPr>
          <p:blipFill>
            <a:blip r:embed="rId1"/>
            <a:srcRect l="1998" t="20670" r="47003" b="70006"/>
            <a:stretch/>
          </p:blipFill>
          <p:spPr>
            <a:xfrm>
              <a:off x="1905120" y="1523880"/>
              <a:ext cx="5867640" cy="815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ciency Over Standards</a:t>
            </a:r>
            <a:endParaRPr b="1" lang="en-US" sz="3600" spc="-1" strike="noStrike">
              <a:solidFill>
                <a:srgbClr val="006666"/>
              </a:solidFill>
              <a:latin typeface="Arial"/>
            </a:endParaRPr>
          </a:p>
        </p:txBody>
      </p:sp>
      <p:pic>
        <p:nvPicPr>
          <p:cNvPr id="123" name="" descr=""/>
          <p:cNvPicPr/>
          <p:nvPr/>
        </p:nvPicPr>
        <p:blipFill>
          <a:blip r:embed="rId1"/>
          <a:srcRect l="0" t="11999" r="23752" b="15211"/>
          <a:stretch/>
        </p:blipFill>
        <p:spPr>
          <a:xfrm>
            <a:off x="762120" y="2311560"/>
            <a:ext cx="7619760" cy="454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a:t>
            </a:r>
            <a:endParaRPr b="1" lang="en-US" sz="3600" spc="-1" strike="noStrike">
              <a:solidFill>
                <a:srgbClr val="006666"/>
              </a:solidFill>
              <a:latin typeface="Arial"/>
            </a:endParaRPr>
          </a:p>
        </p:txBody>
      </p:sp>
      <p:pic>
        <p:nvPicPr>
          <p:cNvPr id="125" name="" descr=""/>
          <p:cNvPicPr/>
          <p:nvPr/>
        </p:nvPicPr>
        <p:blipFill>
          <a:blip r:embed="rId1"/>
          <a:srcRect l="23752" t="10000" r="21877" b="30001"/>
          <a:stretch/>
        </p:blipFill>
        <p:spPr>
          <a:xfrm>
            <a:off x="762120" y="2286000"/>
            <a:ext cx="66294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 Summary</a:t>
            </a:r>
            <a:endParaRPr b="1" lang="en-US" sz="3600" spc="-1" strike="noStrike">
              <a:solidFill>
                <a:srgbClr val="006666"/>
              </a:solidFill>
              <a:latin typeface="Arial"/>
            </a:endParaRPr>
          </a:p>
        </p:txBody>
      </p:sp>
      <p:pic>
        <p:nvPicPr>
          <p:cNvPr id="127" name="" descr=""/>
          <p:cNvPicPr/>
          <p:nvPr/>
        </p:nvPicPr>
        <p:blipFill>
          <a:blip r:embed="rId1"/>
          <a:srcRect l="17502" t="13000" r="33126" b="47003"/>
          <a:stretch/>
        </p:blipFill>
        <p:spPr>
          <a:xfrm>
            <a:off x="762120" y="2362320"/>
            <a:ext cx="8381880" cy="424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pic>
        <p:nvPicPr>
          <p:cNvPr id="129" name="" descr=""/>
          <p:cNvPicPr/>
          <p:nvPr/>
        </p:nvPicPr>
        <p:blipFill>
          <a:blip r:embed="rId1"/>
          <a:srcRect l="14375" t="17998" r="16876" b="20336"/>
          <a:stretch/>
        </p:blipFill>
        <p:spPr>
          <a:xfrm>
            <a:off x="762120" y="2286000"/>
            <a:ext cx="8381880" cy="4572000"/>
          </a:xfrm>
          <a:prstGeom prst="rect">
            <a:avLst/>
          </a:prstGeom>
          <a:ln w="0">
            <a:noFill/>
          </a:ln>
        </p:spPr>
      </p:pic>
      <p:sp>
        <p:nvSpPr>
          <p:cNvPr id="130" name=""/>
          <p:cNvSpPr/>
          <p:nvPr/>
        </p:nvSpPr>
        <p:spPr>
          <a:xfrm>
            <a:off x="6629400" y="2819520"/>
            <a:ext cx="1600200" cy="1143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 Areas</a:t>
            </a:r>
            <a:endParaRPr b="1" lang="en-US" sz="3600" spc="-1" strike="noStrike">
              <a:solidFill>
                <a:srgbClr val="006666"/>
              </a:solidFill>
              <a:latin typeface="Arial"/>
            </a:endParaRPr>
          </a:p>
        </p:txBody>
      </p:sp>
      <p:pic>
        <p:nvPicPr>
          <p:cNvPr id="133" name="" descr=""/>
          <p:cNvPicPr/>
          <p:nvPr/>
        </p:nvPicPr>
        <p:blipFill>
          <a:blip r:embed="rId1"/>
          <a:srcRect l="4672" t="16519" r="4672" b="12461"/>
          <a:stretch/>
        </p:blipFill>
        <p:spPr>
          <a:xfrm>
            <a:off x="762120" y="2286000"/>
            <a:ext cx="7391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ins Reports</a:t>
            </a:r>
            <a:endParaRPr b="1" lang="en-US" sz="3600" spc="-1" strike="noStrike">
              <a:solidFill>
                <a:srgbClr val="006666"/>
              </a:solidFill>
              <a:latin typeface="Arial"/>
            </a:endParaRPr>
          </a:p>
        </p:txBody>
      </p:sp>
      <p:pic>
        <p:nvPicPr>
          <p:cNvPr id="135" name="" descr=""/>
          <p:cNvPicPr/>
          <p:nvPr/>
        </p:nvPicPr>
        <p:blipFill>
          <a:blip r:embed="rId1"/>
          <a:srcRect l="4998" t="15334" r="7001" b="12669"/>
          <a:stretch/>
        </p:blipFill>
        <p:spPr>
          <a:xfrm>
            <a:off x="762120" y="228600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 Proficient by Subgroups</a:t>
            </a:r>
            <a:endParaRPr b="1" lang="en-US" sz="3600" spc="-1" strike="noStrike">
              <a:solidFill>
                <a:srgbClr val="006666"/>
              </a:solidFill>
              <a:latin typeface="Arial"/>
            </a:endParaRPr>
          </a:p>
        </p:txBody>
      </p:sp>
      <p:pic>
        <p:nvPicPr>
          <p:cNvPr id="137" name="" descr=""/>
          <p:cNvPicPr/>
          <p:nvPr/>
        </p:nvPicPr>
        <p:blipFill>
          <a:blip r:embed="rId1"/>
          <a:srcRect l="4001" t="14666" r="4001" b="12002"/>
          <a:stretch/>
        </p:blipFill>
        <p:spPr>
          <a:xfrm>
            <a:off x="762120" y="2286000"/>
            <a:ext cx="701028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pic>
        <p:nvPicPr>
          <p:cNvPr id="139" name="" descr=""/>
          <p:cNvPicPr/>
          <p:nvPr/>
        </p:nvPicPr>
        <p:blipFill>
          <a:blip r:embed="rId1"/>
          <a:srcRect l="0" t="52084" r="0" b="7294"/>
          <a:stretch/>
        </p:blipFill>
        <p:spPr>
          <a:xfrm>
            <a:off x="762120" y="3200400"/>
            <a:ext cx="8381880" cy="255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pic>
        <p:nvPicPr>
          <p:cNvPr id="141" name="" descr=""/>
          <p:cNvPicPr/>
          <p:nvPr/>
        </p:nvPicPr>
        <p:blipFill>
          <a:blip r:embed="rId1"/>
          <a:srcRect l="10938" t="28124" r="20315" b="6251"/>
          <a:stretch/>
        </p:blipFill>
        <p:spPr>
          <a:xfrm>
            <a:off x="1295280" y="2286000"/>
            <a:ext cx="6324840" cy="452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and Comments</a:t>
            </a: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 Tal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rief?</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han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l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the Measures databa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iew common data repor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ve with a list of reports that you can use immediately at your school s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Talk</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 administrator, what information do you want a student assessment database to provide?  What do you want the data to tell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11" name="" descr=""/>
          <p:cNvPicPr/>
          <p:nvPr/>
        </p:nvPicPr>
        <p:blipFill>
          <a:blip r:embed="rId1"/>
          <a:srcRect l="0" t="20670" r="11002" b="9998"/>
          <a:stretch/>
        </p:blipFill>
        <p:spPr>
          <a:xfrm>
            <a:off x="762120" y="2286000"/>
            <a:ext cx="68580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13" name="" descr=""/>
          <p:cNvPicPr/>
          <p:nvPr/>
        </p:nvPicPr>
        <p:blipFill>
          <a:blip r:embed="rId1"/>
          <a:srcRect l="1011" t="20670" r="5003" b="9998"/>
          <a:stretch/>
        </p:blipFill>
        <p:spPr>
          <a:xfrm>
            <a:off x="762120" y="2286000"/>
            <a:ext cx="723888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15" name="" descr=""/>
          <p:cNvPicPr/>
          <p:nvPr/>
        </p:nvPicPr>
        <p:blipFill>
          <a:blip r:embed="rId1"/>
          <a:srcRect l="1001" t="20670" r="5003" b="9998"/>
          <a:stretch/>
        </p:blipFill>
        <p:spPr>
          <a:xfrm>
            <a:off x="762120" y="2286000"/>
            <a:ext cx="71625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by Student</a:t>
            </a:r>
            <a:endParaRPr b="1" lang="en-US" sz="3600" spc="-1" strike="noStrike">
              <a:solidFill>
                <a:srgbClr val="006666"/>
              </a:solidFill>
              <a:latin typeface="Arial"/>
            </a:endParaRPr>
          </a:p>
        </p:txBody>
      </p:sp>
      <p:pic>
        <p:nvPicPr>
          <p:cNvPr id="117" name="" descr=""/>
          <p:cNvPicPr/>
          <p:nvPr/>
        </p:nvPicPr>
        <p:blipFill>
          <a:blip r:embed="rId1"/>
          <a:srcRect l="-623" t="11999" r="25624" b="18003"/>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em Analysis</a:t>
            </a:r>
            <a:endParaRPr b="1" lang="en-US" sz="3600" spc="-1" strike="noStrike">
              <a:solidFill>
                <a:srgbClr val="006666"/>
              </a:solidFill>
              <a:latin typeface="Arial"/>
            </a:endParaRPr>
          </a:p>
        </p:txBody>
      </p:sp>
      <p:pic>
        <p:nvPicPr>
          <p:cNvPr id="119" name="" descr=""/>
          <p:cNvPicPr/>
          <p:nvPr/>
        </p:nvPicPr>
        <p:blipFill>
          <a:blip r:embed="rId1"/>
          <a:srcRect l="0" t="30001" r="25004" b="6996"/>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Over Standards</a:t>
            </a:r>
            <a:endParaRPr b="1" lang="en-US" sz="3600" spc="-1" strike="noStrike">
              <a:solidFill>
                <a:srgbClr val="006666"/>
              </a:solidFill>
              <a:latin typeface="Arial"/>
            </a:endParaRPr>
          </a:p>
        </p:txBody>
      </p:sp>
      <p:pic>
        <p:nvPicPr>
          <p:cNvPr id="121" name="" descr=""/>
          <p:cNvPicPr/>
          <p:nvPr/>
        </p:nvPicPr>
        <p:blipFill>
          <a:blip r:embed="rId1"/>
          <a:srcRect l="0" t="30001" r="0" b="5999"/>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Kenneth Dandurand</cp:lastModifiedBy>
  <cp:lastPrinted>2009-04-22T19:24:48Z</cp:lastPrinted>
  <dcterms:modified xsi:type="dcterms:W3CDTF">2009-08-05T21:41:54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